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870-891A-44D9-B7E4-239DA85E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87B-6D2F-4C03-9213-299835BD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D90-18CE-42F4-8449-A515A20C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495-1F1F-4191-AA3B-1AFF8F16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7C5-C2F0-458B-A52E-89BB81E2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48D-4FBE-446C-BF02-5550F3DA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B2E-292F-4E74-AC57-DE39836A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FF9-4C64-4250-8925-0264C101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65F-C2FE-4F71-BAD9-A6B36624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5EB-FCA4-436A-A73B-95FD1669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177-53CB-4DC0-83BA-692D5FC8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719-6731-4C38-BEAE-E50466F7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213C-AC68-4B63-9845-F439E8A030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3962520" y="1066680"/>
            <a:ext cx="2361960" cy="1143000"/>
          </a:xfrm>
          <a:custGeom>
            <a:avLst/>
            <a:gdLst>
              <a:gd name="textAreaLeft" fmla="*/ 142560 w 2361960"/>
              <a:gd name="textAreaRight" fmla="*/ 2219400 w 2361960"/>
              <a:gd name="textAreaTop" fmla="*/ 142920 h 1143000"/>
              <a:gd name="textAreaBottom" fmla="*/ 1000440 h 1143000"/>
            </a:gdLst>
            <a:ahLst/>
            <a:rect l="textAreaLeft" t="textAreaTop" r="textAreaRight" b="textAreaBottom"/>
            <a:pathLst>
              <a:path w="2362200" h="1143000">
                <a:moveTo>
                  <a:pt x="0" y="0"/>
                </a:moveTo>
                <a:lnTo>
                  <a:pt x="2362200" y="0"/>
                </a:lnTo>
                <a:lnTo>
                  <a:pt x="2362200" y="1143000"/>
                </a:lnTo>
                <a:lnTo>
                  <a:pt x="0" y="1143000"/>
                </a:lnTo>
                <a:close/>
                <a:moveTo>
                  <a:pt x="142875" y="142875"/>
                </a:moveTo>
                <a:lnTo>
                  <a:pt x="142875" y="1000125"/>
                </a:lnTo>
                <a:lnTo>
                  <a:pt x="2219325" y="1000125"/>
                </a:lnTo>
                <a:lnTo>
                  <a:pt x="2219325" y="1428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putting a plant under red, green, or blue light make it grow tall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Documents and Settings\krose\Local Settings\Temporary Internet Files\Content.IE5\SXURO1E3\MMj03181880000[1].gif"/>
          <p:cNvPicPr/>
          <p:nvPr/>
        </p:nvPicPr>
        <p:blipFill>
          <a:blip r:embed="rId1"/>
          <a:stretch/>
        </p:blipFill>
        <p:spPr>
          <a:xfrm>
            <a:off x="4362480" y="3143160"/>
            <a:ext cx="419040" cy="571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krose\Local Settings\Temporary Internet Files\Content.IE5\SXURO1E3\MMj03181880000[1].gif"/>
          <p:cNvPicPr/>
          <p:nvPr/>
        </p:nvPicPr>
        <p:blipFill>
          <a:blip r:embed="rId2"/>
          <a:stretch/>
        </p:blipFill>
        <p:spPr>
          <a:xfrm>
            <a:off x="7620120" y="2286000"/>
            <a:ext cx="1452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pink bug.jpg"/>
          <p:cNvPicPr/>
          <p:nvPr/>
        </p:nvPicPr>
        <p:blipFill>
          <a:blip r:embed="rId1"/>
          <a:stretch/>
        </p:blipFill>
        <p:spPr>
          <a:xfrm>
            <a:off x="304920" y="0"/>
            <a:ext cx="990360" cy="1017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380880" y="671400"/>
            <a:ext cx="853452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:   Bug has 3 antenn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:        Bug is a mut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:   amount of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IV:   1 dose, 2 doses, 3 d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:   Time to lose extra antanna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of Measurement:  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:   type of chemi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type of 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ariables and Const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71440" y="1676520"/>
            <a:ext cx="5638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hings that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2 types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80880" y="42670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12"/>
          <p:cNvCxnSpPr/>
          <p:nvPr/>
        </p:nvCxnSpPr>
        <p:spPr>
          <a:xfrm>
            <a:off x="2666520" y="1600200"/>
            <a:ext cx="1080" cy="452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0492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 (IV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352320" y="5335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thing you change on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 “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ll” change thi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Example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You have a metal coffee cup and a paper coffee cup.  You want to see which one stays the hottest after 5 minu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he IV is -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                </a:t>
            </a:r>
            <a:r>
              <a:rPr b="0" lang="en-US" sz="2400" spc="-1" strike="noStrike" u="sng">
                <a:solidFill>
                  <a:srgbClr val="00b050"/>
                </a:solidFill>
                <a:uFillTx/>
                <a:latin typeface="Calibri"/>
              </a:rPr>
              <a:t>type of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coffee c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AutoShape 7"/>
          <p:cNvCxnSpPr/>
          <p:nvPr/>
        </p:nvCxnSpPr>
        <p:spPr>
          <a:xfrm>
            <a:off x="2895120" y="533160"/>
            <a:ext cx="1080" cy="55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86" name="Picture 8" descr="MCSO02021_0000[1]"/>
          <p:cNvPicPr/>
          <p:nvPr/>
        </p:nvPicPr>
        <p:blipFill>
          <a:blip r:embed="rId1"/>
          <a:stretch/>
        </p:blipFill>
        <p:spPr>
          <a:xfrm>
            <a:off x="6934320" y="1447920"/>
            <a:ext cx="1711080" cy="157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2"/>
          <a:stretch/>
        </p:blipFill>
        <p:spPr>
          <a:xfrm>
            <a:off x="81532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650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352320" y="457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 of “set-ups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The levels of IV in our coffee cup experiment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metal coffee 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paper coffee 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AutoShape 7"/>
          <p:cNvCxnSpPr/>
          <p:nvPr/>
        </p:nvCxnSpPr>
        <p:spPr>
          <a:xfrm>
            <a:off x="3047760" y="456840"/>
            <a:ext cx="1080" cy="566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MCFD00042_0000[1]"/>
          <p:cNvPicPr/>
          <p:nvPr/>
        </p:nvPicPr>
        <p:blipFill>
          <a:blip r:embed="rId2"/>
          <a:stretch/>
        </p:blipFill>
        <p:spPr>
          <a:xfrm>
            <a:off x="3581280" y="4495680"/>
            <a:ext cx="1136880" cy="1741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Cj04099350000[1]"/>
          <p:cNvPicPr/>
          <p:nvPr/>
        </p:nvPicPr>
        <p:blipFill>
          <a:blip r:embed="rId3"/>
          <a:stretch/>
        </p:blipFill>
        <p:spPr>
          <a:xfrm>
            <a:off x="6705720" y="4572000"/>
            <a:ext cx="17967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0520" y="685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 (D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04960" y="68580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you mea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 you mea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 carefu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the DV in our coffee cup experiment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Temperature of cof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s of Measure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metr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 units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t your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AutoShape 7"/>
          <p:cNvCxnSpPr/>
          <p:nvPr/>
        </p:nvCxnSpPr>
        <p:spPr>
          <a:xfrm>
            <a:off x="3123720" y="609120"/>
            <a:ext cx="1080" cy="5792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97" name="Picture 11" descr="MCj02383890000[1]"/>
          <p:cNvPicPr/>
          <p:nvPr/>
        </p:nvPicPr>
        <p:blipFill>
          <a:blip r:embed="rId1"/>
          <a:stretch/>
        </p:blipFill>
        <p:spPr>
          <a:xfrm>
            <a:off x="6781680" y="4191120"/>
            <a:ext cx="2105280" cy="194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137160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889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3124080" y="3808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57200" y="15238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0" y="609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200400" y="609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that stay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200400" y="1371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the experiment f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you need const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MPj03998350000[1]"/>
          <p:cNvPicPr/>
          <p:nvPr/>
        </p:nvPicPr>
        <p:blipFill>
          <a:blip r:embed="rId1"/>
          <a:stretch/>
        </p:blipFill>
        <p:spPr>
          <a:xfrm>
            <a:off x="6692760" y="3200400"/>
            <a:ext cx="2451240" cy="2590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2"/>
          <a:stretch/>
        </p:blipFill>
        <p:spPr>
          <a:xfrm>
            <a:off x="815328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3124080" y="2057400"/>
            <a:ext cx="4114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Good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Starting Temp of </a:t>
            </a:r>
            <a:br>
              <a:rPr sz="2400"/>
            </a:b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Experimen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Volume of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24080" y="441972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Not So Good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:  The difference between the IV and the DV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are important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2" descr=""/>
          <p:cNvPicPr/>
          <p:nvPr/>
        </p:nvPicPr>
        <p:blipFill>
          <a:blip r:embed="rId3"/>
          <a:stretch/>
        </p:blipFill>
        <p:spPr>
          <a:xfrm>
            <a:off x="32767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08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216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amount of sugar in soda (diet soda vs regular soda) affect the number of cavities you g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krose\Local Settings\Temporary Internet Files\Content.IE5\OXE3K9I7\MCj04079300000[1].wmf"/>
          <p:cNvPicPr/>
          <p:nvPr/>
        </p:nvPicPr>
        <p:blipFill>
          <a:blip r:embed="rId1"/>
          <a:stretch/>
        </p:blipFill>
        <p:spPr>
          <a:xfrm>
            <a:off x="7391520" y="0"/>
            <a:ext cx="1295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length of a plane wing (3 cm, 5 cm and 7 cm) affect the distance it fl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Documents and Settings\krose\Local Settings\Temporary Internet Files\Content.IE5\OXE3K9I7\MMAG00295_0000[1].gif"/>
          <p:cNvPicPr/>
          <p:nvPr/>
        </p:nvPicPr>
        <p:blipFill>
          <a:blip r:embed="rId1"/>
          <a:stretch/>
        </p:blipFill>
        <p:spPr>
          <a:xfrm>
            <a:off x="0" y="4786200"/>
            <a:ext cx="908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age of a basketball (brand new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months old, 4 months old) affect how high it bou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Documents and Settings\krose\Local Settings\Temporary Internet Files\Content.IE5\OXE3K9I7\MMj03957040000[1].gif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6:48:05Z</dcterms:created>
  <dc:creator>Jean Kavanagh</dc:creator>
  <dc:description/>
  <dc:language>en-US</dc:language>
  <cp:lastModifiedBy>Jean Kavanagh</cp:lastModifiedBy>
  <dcterms:modified xsi:type="dcterms:W3CDTF">2010-08-25T17:54:05Z</dcterms:modified>
  <cp:revision>55</cp:revision>
  <dc:subject/>
  <dc:title>Variables, Constants and Controls</dc:title>
</cp:coreProperties>
</file>